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A50-226C-4292-A666-1C0CDAAC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6C6E-9012-41AB-A1D1-32EBF33CB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59A-8616-49C9-AFB1-A0CD1C49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91404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66048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5FD-0A3C-4E72-9588-EA8DA357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66F-3103-4C75-AA3A-192594EB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191A-8814-4BC9-882B-8637A3EE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73B1-E0F8-4BEF-B920-069FBDD1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EB5-E44F-4279-BD17-3B0A8186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00D3-D559-4E74-B412-374BED87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D0F-3F38-423E-A475-438936E4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66048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0E1C-0BBF-42A1-9045-94921C67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91404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6048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6CB-51F5-4A37-8A3C-4DC09CE5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140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274D-65EC-4834-9BD6-D7A89CBB70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06668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000080"/>
                </a:solidFill>
                <a:latin typeface="Tahoma"/>
              </a:rPr>
              <a:t>Artistic Sty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97280" y="2658960"/>
            <a:ext cx="68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in freier, schneller und kleiner Formatie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ür C, C++ und Java-Quell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6720" y="4183200"/>
            <a:ext cx="6671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von Tal Davidson,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Israel (E-Mail: </a:t>
            </a:r>
            <a:r>
              <a:rPr b="1" lang="de-DE" sz="1800" spc="-1" strike="noStrike">
                <a:solidFill>
                  <a:srgbClr val="3333cc"/>
                </a:solidFill>
                <a:latin typeface="Tahoma"/>
              </a:rPr>
              <a:t>davidsont@bigfoot.com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(Homepage - </a:t>
            </a:r>
            <a:r>
              <a:rPr b="1" lang="de-DE" sz="1800" spc="-1" strike="noStrike">
                <a:solidFill>
                  <a:srgbClr val="3333cc"/>
                </a:solidFill>
                <a:latin typeface="Tahoma"/>
              </a:rPr>
              <a:t>http://astyle.sourceforge.net/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800" spc="-1" strike="noStrike">
                <a:solidFill>
                  <a:srgbClr val="ffffff"/>
                </a:solidFill>
                <a:latin typeface="Tahoma"/>
              </a:rPr>
              <a:t>Artistic Style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42480" y="1600200"/>
            <a:ext cx="4377960" cy="44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matierung/Einzüge im GNU-S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namespace foospace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int Foo()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if (isBar)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bar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return 1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else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return 0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--style=gn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5520" y="1744560"/>
            <a:ext cx="4298400" cy="36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matierung/Einzüge im Java-S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class foospace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nt Foo()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if (isBar)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bar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return 1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else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return 0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--style=ja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17280" y="1905120"/>
            <a:ext cx="5455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c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mode=c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züge in einer C- oder C++-Datei einfü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j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mode=java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züge in einer Java-Datei einfü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indent=tab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züge mit Tabulatorzeichen formatier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s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indent=spaces=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#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züge mit 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Leerzeichen pro Einzu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-s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--indent=spaces=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züg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5200" y="1065960"/>
            <a:ext cx="67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lgende Einzug-Optionen können verwendet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92840" y="1143000"/>
            <a:ext cx="821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lass‘-Blöcke so formatieren, daß 'public:', 'protected:' und 'private: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 den ‘class‘-Block eingezogen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000" y="2735280"/>
            <a:ext cx="353340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class Foo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public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Foo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virtual ~Foo();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8880" y="2736720"/>
            <a:ext cx="414324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wird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class Foo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public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Foo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virtual ~Foo();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C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indent-class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15160" y="1143000"/>
            <a:ext cx="78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matiert 'switch‘-Blöcke so,daß 'case XXX:' in den switch-Bloc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gezogen wi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49760" y="2511360"/>
            <a:ext cx="2923920" cy="28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wird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switch (foo)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case 1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a += 2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break;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default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a += 2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break;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560" y="2508120"/>
            <a:ext cx="246672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switch (foo)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case 1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a += 2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break;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default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a += 2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break;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S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indent-switch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50120" y="2354400"/>
            <a:ext cx="33807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800000"/>
                </a:solidFill>
                <a:latin typeface="Tahoma"/>
              </a:rPr>
              <a:t>     </a:t>
            </a: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wird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els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nother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760" y="1143000"/>
            <a:ext cx="55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schweifte Klammern zusätzlich einzieh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920" y="2354400"/>
            <a:ext cx="3380760" cy="29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els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nother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B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indent-brack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3440" y="2430360"/>
            <a:ext cx="341136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wir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els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notherBar();</a:t>
            </a:r>
            <a:r>
              <a:rPr b="0" lang="de-D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0640" y="1143000"/>
            <a:ext cx="514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 gesamten Block zusätzlich einzie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920" y="2430360"/>
            <a:ext cx="338076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els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nother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G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indent-block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63960" y="2205000"/>
            <a:ext cx="47527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wird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namespace foospace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class Foo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public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Foo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virtual ~Foo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;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7640" y="1143000"/>
            <a:ext cx="42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spaces zusätzlich einziehen.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360" y="2201760"/>
            <a:ext cx="4143240" cy="39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namespace foospace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class Foo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public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Foo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virtual ~Foo();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;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indent-namespac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497120" y="1976400"/>
            <a:ext cx="353376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wird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nt foospace()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while (isFoo)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...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goto error;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error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...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7280" y="1066680"/>
            <a:ext cx="758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bel so einziehen, daß sie um eine Stufe weniger eingez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d, als der umgebende Konte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1400" y="1962000"/>
            <a:ext cx="353376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nt foospace()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while (isFoo)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...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goto error;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error: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...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L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indent-labe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98960" y="3048120"/>
            <a:ext cx="754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lgende Formatierungsoptionen können verwendet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tierunge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5920" y="2427120"/>
            <a:ext cx="79164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1) astyle.zip auspacken und kompilieren (siehe auch README.tx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) Ausführen mit der folgenden Syntax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0080"/>
                </a:solidFill>
                <a:latin typeface="Courier New"/>
              </a:rPr>
              <a:t>astyl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80"/>
                </a:solidFill>
                <a:latin typeface="Courier New"/>
              </a:rPr>
              <a:t>[Optionen]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800080"/>
                </a:solidFill>
                <a:latin typeface="Courier New"/>
              </a:rPr>
              <a:t>Originalquelldatei </a:t>
            </a:r>
            <a:r>
              <a:rPr b="1" lang="de-DE" sz="1600" spc="-1" strike="noStrike">
                <a:solidFill>
                  <a:srgbClr val="ff0000"/>
                </a:solidFill>
                <a:latin typeface="Courier New"/>
              </a:rPr>
              <a:t>&gt;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800080"/>
                </a:solidFill>
                <a:latin typeface="Courier New"/>
              </a:rPr>
              <a:t>Beautified-Quelldat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800080"/>
                </a:solidFill>
                <a:latin typeface="Courier New"/>
              </a:rPr>
              <a:t>astyle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80"/>
                </a:solidFill>
                <a:latin typeface="Courier New"/>
              </a:rPr>
              <a:t>[Optionen]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800080"/>
                </a:solidFill>
                <a:latin typeface="Courier New"/>
              </a:rPr>
              <a:t>Foo.jav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800080"/>
                </a:solidFill>
                <a:latin typeface="Courier New"/>
              </a:rPr>
              <a:t>Bar.javaAnotherBar.java</a:t>
            </a:r>
            <a:r>
              <a:rPr b="1" lang="de-DE" sz="1600" spc="-1" strike="noStrike">
                <a:solidFill>
                  <a:srgbClr val="000080"/>
                </a:solidFill>
                <a:latin typeface="Courier New"/>
              </a:rPr>
              <a:t> [ . . . 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tzu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mmandoze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7800" y="2743200"/>
            <a:ext cx="3380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else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nother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7360" y="1295280"/>
            <a:ext cx="82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schweifte Klammern stehen auf einer neuen Zeile. (ANSI C, C++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b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brackets=brea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973600" y="3505320"/>
            <a:ext cx="292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else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notherBar(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7760" y="1295280"/>
            <a:ext cx="712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schweifte Klammern folgen direkt hinterder Anweis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 Java , Kernighan&amp;Ritchie 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a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brackets=attach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135160" y="2590920"/>
            <a:ext cx="3838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namespace foospace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int Foo()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if (isBar)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bar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return 1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else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return 0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5680" y="1066680"/>
            <a:ext cx="768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 Anfang von Klassen- und Funktionsdefinitionen st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geschweiften Klammern in einer neuen Zeile, innerhalb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 in derselben Ze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l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brackets=linu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5680" y="2558880"/>
            <a:ext cx="53622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A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 = bar((b-c)*a,*d--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wird: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 = bar((b - c) * a, *d--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2120" y="1219320"/>
            <a:ext cx="54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m Operatorsymbole Leerzeichen einfü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p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pad=op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02000" y="2482920"/>
            <a:ext cx="536220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Aus: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 = bar((b-c)*a,*d--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wird: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 isFoo 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 = bar( ( b-c )*a, *d--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0640" y="114300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m Klammern Leerzeichen einfü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pad=par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8480" y="2438280"/>
            <a:ext cx="5971680" cy="24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Aus: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 = bar((b-c)*a,*d--);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Tahoma"/>
              </a:rPr>
              <a:t>wird: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 isFoo )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a = bar( ( b - c ) * a, *d--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3160" y="1219320"/>
            <a:ext cx="734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Um Klammern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und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peratorsymbole Leerzeichen einfü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P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pad=a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15840" y="3048120"/>
            <a:ext cx="6886440" cy="18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isFoo = false; cout &lt;&lt; isFoo &lt;&lt; endl;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eibt wie es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6360" y="1219320"/>
            <a:ext cx="64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hrere Statements in einer Zeile nicht umbre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o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one-line=keep-statemen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7600" y="3276720"/>
            <a:ext cx="68860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Foo)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isFoo = false; cout &lt;&lt; isFoo &lt;&lt; endl;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leibt wie es i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720" y="1219320"/>
            <a:ext cx="438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-Zeilen-Blöcke nicht umbrech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O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oder</a:t>
            </a:r>
            <a:r>
              <a:rPr b="0" lang="de-DE" sz="2000" spc="-1" strike="noStrike">
                <a:solidFill>
                  <a:srgbClr val="000080"/>
                </a:solidFill>
                <a:latin typeface="Tahoma"/>
              </a:rPr>
              <a:t>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one-line=keep-block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152388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suffix=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###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Endung </a:t>
            </a:r>
            <a:r>
              <a:rPr b="1" lang="de-DE" sz="2000" spc="-1" strike="noStrike">
                <a:solidFill>
                  <a:srgbClr val="ff0000"/>
                </a:solidFill>
                <a:latin typeface="Tahoma"/>
              </a:rPr>
              <a:t>##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n Stelle von '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.orig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‘ an die Originaldatei anhän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0800" y="2438280"/>
            <a:ext cx="8553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X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errors-to-standard-output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ibt Fehlermeldungen und Hilfeinformationen nicht auf stder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ndern auf stdout aus. Diese Option ist hilfreich auf Systemen/Shel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i denen solch eine Umleitung nicht möglich ist. (z. B. Window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5640" y="3886200"/>
            <a:ext cx="379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v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vers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ibt die Versionsnummer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1160" y="4724280"/>
            <a:ext cx="273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h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?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oder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--help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ibt eine Hilfe a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itere Optione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77360" y="1371600"/>
            <a:ext cx="66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ch den für das Projekt gültigen Code-Konven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ürden also die folgenden Optionen gel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2000" y="2666880"/>
            <a:ext cx="3533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--mode=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--indent=spaces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--indent-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--indent-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--indent-name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--brackets=br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--pad=pa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Courier New"/>
              </a:rPr>
              <a:t>--one-line=keep-blo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swirkunge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92840" y="1371600"/>
            <a:ext cx="702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rden keine Optionen angegeben, so wird der Text m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nzügen nach C/C++-Stil versehen - jeder Einzugschrit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er Leerzeichen lang - und nicht formatiert. Op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önnen auf zwei verschiedene Arten angegeben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3720" y="2895480"/>
            <a:ext cx="715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ange Op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se Optionen beginnen mi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, und müssen jede für s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gegeben werden, z.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ahoma"/>
              </a:rPr>
              <a:t>--brackets=attach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ahoma"/>
              </a:rPr>
              <a:t>--pad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Tahoma"/>
              </a:rPr>
              <a:t>--indent=spaces=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280" y="4495680"/>
            <a:ext cx="698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urze Option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se Optionen beginnen mi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‘, und können zusamm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fügt wer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 ist </a:t>
            </a:r>
            <a:r>
              <a:rPr b="1" lang="en-US" sz="2000" spc="-1" strike="noStrike">
                <a:solidFill>
                  <a:srgbClr val="000080"/>
                </a:solidFill>
                <a:latin typeface="Tahoma"/>
              </a:rPr>
              <a:t>-bps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gleichbedeutend mit </a:t>
            </a:r>
            <a:r>
              <a:rPr b="1" lang="en-US" sz="2000" spc="-1" strike="noStrike">
                <a:solidFill>
                  <a:srgbClr val="000080"/>
                </a:solidFill>
                <a:latin typeface="Tahoma"/>
              </a:rPr>
              <a:t>-b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en-US" sz="2000" spc="-1" strike="noStrike">
                <a:solidFill>
                  <a:srgbClr val="000080"/>
                </a:solidFill>
                <a:latin typeface="Tahoma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1" lang="en-US" sz="2000" spc="-1" strike="noStrike">
                <a:solidFill>
                  <a:srgbClr val="000080"/>
                </a:solidFill>
                <a:latin typeface="Tahoma"/>
              </a:rPr>
              <a:t>s4 </a:t>
            </a:r>
            <a:r>
              <a:rPr b="0" lang="en-US" sz="20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7120" y="2971800"/>
            <a:ext cx="72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 folgenden eine Vorher-Nachher-Darstellung, was di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 leistet, und was nich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spi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zug aus counters.cpp:(Vorher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9520" y="1295280"/>
            <a:ext cx="8327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GenericDevice::PollDevice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WORD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counts,tick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illTimer(hWndFrame,DeviceTimerIdStart + GetId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(!bDeviceActive) return R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itch(IOCTL(iocIsCountingReady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Timer(hWndFrame,DeviceTimerIdStart + GetId(),uAskTime,NUL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turn R_MeasInPro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1:  // time counter 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OCTL(iocReadCounts,count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OCTL(iocReadTicks,tick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 = (float)ticks / GetTicksPerSecon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(ticks !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 = fExposureTime + ti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zug aus counters.cpp:(Nachher1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8800" y="1066680"/>
            <a:ext cx="7345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GenericDevice::PollDevice( void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WORD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counts,tick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illTimer( hWndFrame,DeviceTimerIdStart + GetId( 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( !bDeviceActive )  return R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itch( IOCTL( iocIsCountingReady 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Timer( hWndFrame,DeviceTimerIdStart + GetId( ),uAskTime,NULL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turn R_MeasInPro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1:  // time counter 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OCTL( iocReadCounts,counts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OCTL( iocReadTicks,ticks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 = ( float ) ticks / GetTicksPerSecond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( ticks != 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 = fExposureTime + ti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szug aus counters.cpp:(Nachher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640" y="838080"/>
            <a:ext cx="83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sätzlich wurde hier vor dem astyle-Lauf folgende Zeile ausgeführ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erl -pe „s#\t#  #g while /\t/; s#  # #g while /  /“ -i counters.c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2480" y="1600200"/>
            <a:ext cx="7345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 TGenericDevice::PollDevice( void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loat ti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WORD counts,tick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illTimer( hWndFrame,DeviceTimerIdStart + GetId( 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( !bDeviceActive )  return R_Failur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witch( IOCTL( iocIsCountingReady 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Timer( hWndFrame,DeviceTimerIdStart + GetId( ),uAskTime,NULL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turn R_MeasInProces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se 1: // time counter rea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OCTL( iocReadCounts,counts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OCTL( iocReadTicks,ticks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 = ( float ) ticks / GetTicksPerSecond(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f( ticks != 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ime = fExposureTime + ti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wächen des Program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8960" y="1312200"/>
            <a:ext cx="79131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tyle läßt redundante Leerzeichen/Tabulatoren unangetas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 Parameterlisten von Funktionsdefinitionen/-aufrufen wer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kommaseparierte Parameter nicht mit Leerzeichen getren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tyle fügt auch um Typecasts Leerzeichen in die Klammern 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7760" y="3427920"/>
            <a:ext cx="795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s erste Problem ließe sich durch die Verwendung des vorg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nnten Perl-Einzeilers beheben, allerdings würde dieser bli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ine Arbeit verrrichten und zum Beispiel auch Zeichenketten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onstanten verändern, in denen absichtlich mehrere Leerz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vorkom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11430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ne Konfigurationsdatei kann verwendet werden, um Standar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ptionen zu definier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rtistic Style sucht nach Standardoptionen in der folgend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Reihenfolg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1. In der Systemvariable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$ARTISTIC_STYLE_OP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2. In der Datei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.astylerc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m Verzeichnis, auf das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$HOME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ei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3. In der Datei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.astylerc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im Verzeichnis, auf das </a:t>
            </a: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$HOME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80"/>
                </a:solidFill>
                <a:latin typeface="Tahoma"/>
              </a:rPr>
              <a:t>     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ei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ptionen können durch Zeilenwechsel, Tabulatoren od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Leerzeichen getrenn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Lange Optionen werden in der Datei ohne füh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  geschrie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eilen, die mit ‘</a:t>
            </a:r>
            <a:r>
              <a:rPr b="0" lang="de-DE" sz="2000" spc="-1" strike="noStrike">
                <a:solidFill>
                  <a:srgbClr val="ff0000"/>
                </a:solidFill>
                <a:latin typeface="Tahoma"/>
              </a:rPr>
              <a:t>#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‘ beginnen, werden als Kommentar anges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optione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7600" y="1905120"/>
            <a:ext cx="8105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 Standard-Parsermodus ist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mode=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 Öffnende geschweifte Klammern stehen am Zeilen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brackets=att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 Jeder Einzug ist 6 Leerzeichen br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dent=spaces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 switch-Bloecke einzi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dent-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 Den Origialdateien wird die Endung .pre angehaen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suffix=.p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spiel-Konfigurationsdatei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7120" y="3048120"/>
            <a:ext cx="73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e folgende vordefinierten Stile können verwendet werd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678320" y="1592280"/>
            <a:ext cx="4752720" cy="43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ierung/Einzüge im ANSI-S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namespace foospace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 int Foo()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if (isBar)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bar();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return 1;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else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return 0;</a:t>
            </a:r>
            <a:br>
              <a:rPr sz="2000"/>
            </a:b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--style=ans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402560" y="1744560"/>
            <a:ext cx="6043680" cy="35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matierung/Einzüge im Kernighan&amp;Ritchie-S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namespace foospace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nt Foo()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if (isBar)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bar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return 1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else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return 0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	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--style=k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0600" y="1371600"/>
            <a:ext cx="76878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rmatierung/Einzüge im Linux-Sti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 Am Anfang von Klassen- und Funktionsdefinitionen st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ie geschweiften Klammern in einer neuen Zeile, innerhalb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finition in derselben Zeile, Einzüge sind 8 Leerzeichen lan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namespace foo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int Foo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    if (isBar)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            bar()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            return 1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else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                return 0;</a:t>
            </a:r>
            <a:br>
              <a:rPr sz="2000"/>
            </a:br>
            <a:r>
              <a:rPr b="1" lang="de-DE" sz="2000" spc="-1" strike="noStrike">
                <a:solidFill>
                  <a:srgbClr val="800080"/>
                </a:solidFill>
                <a:latin typeface="Courier New"/>
              </a:rPr>
              <a:t>        </a:t>
            </a: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de-DE" sz="20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--style=linu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18:50:24Z</dcterms:created>
  <dc:creator>Jan Picard</dc:creator>
  <dc:description/>
  <dc:language>en-US</dc:language>
  <cp:lastModifiedBy>Jan Picard</cp:lastModifiedBy>
  <dcterms:modified xsi:type="dcterms:W3CDTF">2000-06-11T09:49:17Z</dcterms:modified>
  <cp:revision>34</cp:revision>
  <dc:subject/>
  <dc:title>Kein Folientit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informatik.hu-berlin.de/~jpicard/</vt:lpwstr>
  </property>
  <property fmtid="{D5CDD505-2E9C-101B-9397-08002B2CF9AE}" pid="9" name="LinkColor">
    <vt:r8>16711782</vt:r8>
  </property>
  <property fmtid="{D5CDD505-2E9C-101B-9397-08002B2CF9AE}" pid="10" name="MailAddress">
    <vt:lpwstr>picard@informatik.hu-berlin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WINDOWS\Desktop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