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E670-EC7B-46FE-AE3D-06818889B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7282-DF84-4C78-9AA3-62860735F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F27F-3077-41C5-8C61-425D522D8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9FE6-F6F7-4938-ABAA-DE7F07D5F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65731-A390-4D7C-93F7-72C412C42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079AD-23F2-411F-8801-6109DDACF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24F36-C0AE-480C-B816-4B21C4CD0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5CB52-171C-491F-97A2-0EF191EED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D6483-72A4-4D87-B64B-7FC83C737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7F860-6CFC-4653-A077-FC247081A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D61AA-399C-4FE6-932A-8487BA70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6D1E-6C57-436C-B771-F5CB51D30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91DAF-8498-4CB0-9A0E-6DA212B6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DC733-563A-4D80-8963-EF43A509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4A41E-6B2A-4602-9AA0-EC837568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E639D-907C-4DF3-8926-CACF8EF69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E977A-BB6A-423F-AE0E-270094A18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D4D4-602E-4F6D-BEDA-01B6203E1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8D57-4C8E-4236-8E94-72B50A47E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A8BA-5B95-4243-87F2-C6EB99D43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510F-B453-4EED-AB30-74C861211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37E1-E9CF-4AF9-A328-395D79FC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52BD-8D5F-4023-8A96-BFAAD7F0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0C94-050F-46C1-A587-738AB957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F2008-6DAB-4A52-A36A-68250CA853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34A8D-1B69-439D-BAED-30236BFAD4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 u="sng">
                <a:solidFill>
                  <a:srgbClr val="ff9900"/>
                </a:solidFill>
                <a:uFillTx/>
                <a:latin typeface="Times New Roman"/>
              </a:rPr>
              <a:t>Aufbau des Hörsystem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39920" y="2133720"/>
            <a:ext cx="152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Futura Md BT"/>
              </a:rPr>
              <a:t>Kurzzeit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1828800"/>
            <a:ext cx="8382240" cy="57636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4754520" cy="54864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952880" y="1447920"/>
            <a:ext cx="40388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ffff00"/>
                </a:solidFill>
                <a:uFillTx/>
                <a:latin typeface="Times New Roman"/>
              </a:rPr>
              <a:t>Außen- und Mitteloh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Times New Roman"/>
              </a:rPr>
              <a:t>Schalltransport und -transform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ffff00"/>
                </a:solidFill>
                <a:uFillTx/>
                <a:latin typeface="Times New Roman"/>
              </a:rPr>
              <a:t>Innenoh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Times New Roman"/>
              </a:rPr>
              <a:t>ca. 20.000 Sinnesze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Times New Roman"/>
              </a:rPr>
              <a:t>Wandlung des Schallsignals in Nervenreizmu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ffff00"/>
                </a:solidFill>
                <a:uFillTx/>
                <a:latin typeface="Times New Roman"/>
              </a:rPr>
              <a:t>Hörbah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Times New Roman"/>
              </a:rPr>
              <a:t>ca. 16.000 Nervenfaser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Times New Roman"/>
              </a:rPr>
              <a:t>Hörbahnker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Times New Roman"/>
              </a:rPr>
              <a:t>Signalvorverarbeitu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ffff00"/>
                </a:solidFill>
                <a:uFillTx/>
                <a:latin typeface="Times New Roman"/>
              </a:rPr>
              <a:t>Auditorischer Corte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Times New Roman"/>
              </a:rPr>
              <a:t>räumliches Hör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Times New Roman"/>
              </a:rPr>
              <a:t>Sprachverstehen auch in geräuschvoller Umgebu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6T12:12:52Z</dcterms:created>
  <dc:creator>Neuronet</dc:creator>
  <dc:description/>
  <dc:language>en-US</dc:language>
  <cp:lastModifiedBy>Neuronet</cp:lastModifiedBy>
  <cp:lastPrinted>2001-05-17T05:33:47Z</cp:lastPrinted>
  <dcterms:modified xsi:type="dcterms:W3CDTF">2001-07-20T10:10:23Z</dcterms:modified>
  <cp:revision>14</cp:revision>
  <dc:subject/>
  <dc:title>Tinnitus:  eine neue Zivilisationkrankheit</dc:title>
</cp:coreProperties>
</file>