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B9A-C7F3-4777-AB69-0786E94A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173-5F1E-41A5-ADBC-0A7956C9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90B-BC04-4746-ABE4-E649DBF5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AB7-B980-4AAD-9E77-DD1F2A37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2FE0-98FB-4D36-83E7-1C5674F2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4A75-0EE6-432B-983F-CD4CA050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ABC4-A88A-40A6-9A64-1F36535D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09BA-598D-4D88-A81E-7B957859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3E2D-7763-4DB5-9E9B-F4860F7C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0CE2-ED80-4AA1-A19F-CE187E95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1DA8-D74C-4F2C-A533-2F70D261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87D-1918-4A36-8912-81FC099F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73B5-AB8F-458F-9973-89C27356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21AF-ECE3-462E-9036-51652659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9527-E714-40A0-B6B9-265266EF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4272-74F6-40C7-9C5D-266B38A5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BBBF-60BA-4786-9728-18571225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092-656A-4D78-9A8C-7C9EC8A4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44B-0D81-4C7B-8FFE-73CFCC21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7C7C-29B0-4556-A33F-E1B4A581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B942-6F83-4B7F-9C8E-8F958403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0F6-6526-43FB-82BB-0C9BEE36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420-0203-4317-87C8-C5EAA263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680-A9AF-4BEF-87C0-2D93B084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DDBE-E1FF-479B-958C-F1718BB039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F024-B1E0-4204-8E41-D2C8D2F88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ff9900"/>
                </a:solidFill>
                <a:uFillTx/>
                <a:latin typeface="Times New Roman"/>
              </a:rPr>
              <a:t>Tinntus - Umleitu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2438280"/>
            <a:ext cx="2362320" cy="23623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2362320"/>
              <a:gd name="textAreaBottom" fmla="*/ 236268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360" y="2133720"/>
            <a:ext cx="186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Futura Md BT"/>
              </a:rPr>
              <a:t>Kurzzeit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Futura Md BT"/>
              </a:rPr>
              <a:t>gedächt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2209680"/>
            <a:ext cx="2819160" cy="1600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Futura Md BT"/>
              </a:rPr>
              <a:t>Kurzzeit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Futura Md BT"/>
              </a:rPr>
              <a:t>gedächtn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752480"/>
            <a:ext cx="7391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Futura Md BT"/>
              </a:rPr>
              <a:t>Bewusste Wahrnehm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61000" y="4952880"/>
            <a:ext cx="42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0000"/>
                </a:solidFill>
                <a:latin typeface="Futura Md BT"/>
              </a:rPr>
              <a:t>T i n n i t u 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791320"/>
            <a:ext cx="8381880" cy="52056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Futura Md BT"/>
              </a:rPr>
              <a:t>Das Ohr und die anderen Sinnesorg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2:12:52Z</dcterms:created>
  <dc:creator>Neuronet</dc:creator>
  <dc:description/>
  <dc:language>en-US</dc:language>
  <cp:lastModifiedBy>Neuronet</cp:lastModifiedBy>
  <cp:lastPrinted>2001-05-17T05:33:47Z</cp:lastPrinted>
  <dcterms:modified xsi:type="dcterms:W3CDTF">2001-07-20T10:02:34Z</dcterms:modified>
  <cp:revision>11</cp:revision>
  <dc:subject/>
  <dc:title>Tinnitus:  eine neue Zivilisationkrankheit</dc:title>
</cp:coreProperties>
</file>