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A688-F905-44BC-A06E-8E726224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ACB-5FA7-4D52-BA94-6F881CA7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5CA-10C9-41A3-8D6B-358AF8F0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991D-59E1-4285-A6C9-A1A8D309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7642-0DC8-42EF-B18A-259C8BF7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313D-B6B8-4213-A63E-B99AE4A8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6311-FBA2-4ED2-9B67-22638C64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2EAA-FF5E-4B96-B02B-B0F56D11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9FB8-6702-4CC3-B4AD-406D8526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2C8A-569B-4E15-9B99-580DB176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9227-652D-46CB-80B4-B693D475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F51-5188-445F-950B-B0115A06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3D7C-9F7D-4EE1-8068-39CCC83C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781F-ED57-4E73-A148-5C65E2D6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2D4D-ADCA-4578-A2AA-5A99C671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F7ED-919B-454F-A2EB-2EA558BE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C933-066C-46CA-8951-164A0032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4DFA-3E12-4D27-86D3-C6DFA544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110-B5C6-45F4-96C3-DA008CCB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E46D-CC36-47E8-ADC6-DD14DE7B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187-790A-4B47-9A3D-BAE230A2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F93D-654A-4F57-BDED-1B7AF6DD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B6F-5CC3-4414-8845-C3BCCAFA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662-A7FE-4BC3-B061-420EA9FF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A488-1FF9-489E-A866-1265EDF081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DB4E-E118-47A1-92DD-6B9C571403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ffcc66"/>
                </a:solidFill>
                <a:uFillTx/>
                <a:latin typeface="Times New Roman"/>
              </a:rPr>
              <a:t>Tinnitus:</a:t>
            </a: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i="1" lang="de-DE" sz="3600" spc="-1" strike="noStrike">
                <a:solidFill>
                  <a:srgbClr val="ffcc66"/>
                </a:solidFill>
                <a:latin typeface="Times New Roman"/>
              </a:rPr>
              <a:t>eine neue Zivilisationskrankheit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04920" y="21337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ff9900"/>
                </a:solidFill>
                <a:uFillTx/>
                <a:latin typeface="Times New Roman"/>
              </a:rPr>
              <a:t>Ursac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6. Medikamente (</a:t>
            </a:r>
            <a:r>
              <a:rPr b="1" lang="de-DE" sz="2400" spc="-1" strike="noStrike">
                <a:solidFill>
                  <a:srgbClr val="ff9900"/>
                </a:solidFill>
                <a:latin typeface="Times New Roman"/>
              </a:rPr>
              <a:t>Penizillin, Acetylsalicylsäure, etc</a:t>
            </a: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7. Kopfverletzungen</a:t>
            </a: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8. Nark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9. Sonstiges:</a:t>
            </a: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Paradontosebehandl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Chirotherap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körperliche Belast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12:12:52Z</dcterms:created>
  <dc:creator>Neuronet</dc:creator>
  <dc:description/>
  <dc:language>en-US</dc:language>
  <cp:lastModifiedBy>Neuronet</cp:lastModifiedBy>
  <dcterms:modified xsi:type="dcterms:W3CDTF">2001-07-20T09:55:13Z</dcterms:modified>
  <cp:revision>7</cp:revision>
  <dc:subject/>
  <dc:title>Tinnitus:  eine neue Zivilisationkrankheit</dc:title>
</cp:coreProperties>
</file>