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710-8B9D-4360-8D68-2A5C303E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EF2-22CD-4BD4-8B03-DDEA06E0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6A3-D439-4188-AE66-6DAD2E72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460-C787-471B-AC3B-0F6AD0F6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EF0A-EA75-4F1B-A359-F85BF8CC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E84A-E8F9-4645-91FC-0F898976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FF6E-2D6A-4BB1-86B4-B0EE9AD6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4BA0-7560-4DB6-935D-F16210DD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F3B2-2F50-49FC-A95E-4117EC82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60B4-1DB8-4D3A-AB42-6E816AA7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BD38-28B4-47A6-8738-13E86E31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C42-9A52-4EA7-B09C-29A83F73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6188-DFB4-4730-9D77-EAEB9AE1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E685-8992-4BBF-A3E3-567224FA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DFFA-D0AB-4192-B29C-97032B6F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7A22-EDB4-4C60-906F-2BF46DAC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1B08-665A-452B-A39F-7B9EB500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C42-7FC3-4DE7-8BFC-F1495A73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EDD-FF52-4A9F-A12D-320A3F0C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7E7-1CE7-40C8-BC88-7A7BF756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540-A647-445A-B904-6DE5BD66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993-5B14-4B87-8059-B550E24E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9E2-0BA6-4516-9C8A-C2357D28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E20-20F7-4397-A68A-B9A0982C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8D55-33F1-4424-A17E-B87B6D8F2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F4EC-C948-4CD3-A37A-38BA0EDBE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ff9900"/>
                </a:solidFill>
                <a:uFillTx/>
                <a:latin typeface="Times New Roman"/>
              </a:rPr>
              <a:t>Tinnitus - Mode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371600"/>
            <a:ext cx="8458200" cy="3733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220968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Futura Md BT"/>
              </a:rPr>
              <a:t>Wahrnehmung und Bewer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86000" y="2666520"/>
            <a:ext cx="0" cy="685800"/>
          </a:xfrm>
          <a:prstGeom prst="line">
            <a:avLst/>
          </a:prstGeom>
          <a:ln w="49320">
            <a:solidFill>
              <a:srgbClr val="ff0000"/>
            </a:solidFill>
            <a:miter/>
            <a:headEnd len="med" type="triangle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9900"/>
                </a:solidFill>
                <a:latin typeface="Futura Md BT"/>
              </a:rPr>
              <a:t>Erkennung, Filt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360" y="54100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9900"/>
                </a:solidFill>
                <a:latin typeface="Futura Md BT"/>
              </a:rPr>
              <a:t>Inneno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0000" y="6019920"/>
            <a:ext cx="300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ff9900"/>
                </a:solidFill>
                <a:latin typeface="Futura Md BT"/>
              </a:rPr>
              <a:t>Sensor</a:t>
            </a:r>
            <a:r>
              <a:rPr b="0" lang="de-DE" sz="2300" spc="-1" strike="noStrike">
                <a:solidFill>
                  <a:srgbClr val="ff9900"/>
                </a:solidFill>
                <a:latin typeface="Garrison Sans"/>
              </a:rPr>
              <a:t>, </a:t>
            </a:r>
            <a:r>
              <a:rPr b="0" lang="de-DE" sz="2300" spc="-1" strike="noStrike">
                <a:solidFill>
                  <a:srgbClr val="ff9900"/>
                </a:solidFill>
                <a:latin typeface="Futura Md BT"/>
              </a:rPr>
              <a:t>Sinnesorga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5160" y="586728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9900"/>
                </a:solidFill>
                <a:latin typeface="Futura Md BT"/>
              </a:rPr>
              <a:t>Hörnervdurchtrenn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257800" y="2666520"/>
            <a:ext cx="0" cy="685800"/>
          </a:xfrm>
          <a:prstGeom prst="line">
            <a:avLst/>
          </a:prstGeom>
          <a:ln w="49320">
            <a:solidFill>
              <a:srgbClr val="ff0000"/>
            </a:solidFill>
            <a:miter/>
            <a:headEnd len="med" type="triangle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266720" y="4191120"/>
            <a:ext cx="838440" cy="0"/>
          </a:xfrm>
          <a:prstGeom prst="line">
            <a:avLst/>
          </a:prstGeom>
          <a:ln w="49320">
            <a:solidFill>
              <a:srgbClr val="ff0000"/>
            </a:solidFill>
            <a:miter/>
            <a:headEnd len="med" type="triangle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276720"/>
            <a:ext cx="3810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9900"/>
                </a:solidFill>
                <a:latin typeface="Futura Md BT"/>
              </a:rPr>
              <a:t>Erkennung,  Filt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3352680"/>
            <a:ext cx="2133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352680"/>
            <a:ext cx="2133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9900"/>
                </a:solidFill>
                <a:latin typeface="Futura Md BT"/>
              </a:rPr>
              <a:t>Emo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5105520"/>
            <a:ext cx="3733920" cy="1600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920" y="5181480"/>
            <a:ext cx="320040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52480" y="4038480"/>
            <a:ext cx="144000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bkortikal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486400" y="3962520"/>
            <a:ext cx="240840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mbisches Syste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638680" y="2743200"/>
            <a:ext cx="1828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euerung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14600" y="2743200"/>
            <a:ext cx="1981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euerung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3720" y="1752480"/>
            <a:ext cx="457200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imäres Hörzentru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2:12:52Z</dcterms:created>
  <dc:creator>Neuronet</dc:creator>
  <dc:description/>
  <dc:language>en-US</dc:language>
  <cp:lastModifiedBy>Neuronet</cp:lastModifiedBy>
  <cp:lastPrinted>2001-05-17T06:35:37Z</cp:lastPrinted>
  <dcterms:modified xsi:type="dcterms:W3CDTF">2001-07-20T10:01:32Z</dcterms:modified>
  <cp:revision>12</cp:revision>
  <dc:subject/>
  <dc:title>Tinnitus:  eine neue Zivilisationkrankheit</dc:title>
</cp:coreProperties>
</file>