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6FD-2F81-4880-9E8C-3412A0E7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1E5-E1E3-467D-A2A7-CEEBAD3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F6F-8987-4D54-8811-811FBA12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8C6-9D85-4ED1-8153-4A86DCC8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E9FE-CB4E-4F30-91A6-73C586B3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FE98-989F-4D71-9883-1DF8DA46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343A-0683-4D4E-A91E-85146823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2EF-8C7B-42D1-957E-C4B5308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381-7073-430F-860B-1B14B78C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028-65E8-4C45-902D-D74CAB0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AF80-3262-45A1-9D85-12640E0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1EF-C5EA-4FE6-81C4-479D3A37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263-B615-4616-8ADF-C79AFBE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EA0-DB6D-4A74-861A-824C30A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BED0-0F76-4905-9C9E-37F8152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006-43C7-4871-85D8-407A1C2A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4C84-B1F8-4AC3-9B93-1A90DC70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17A-F504-4B9A-ADD0-5CDEF10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95F-AACE-46B3-A745-55126129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C74-0DA7-4E8D-ACF3-C1BFF0F9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441-3E8C-4F3C-BF2C-3CD8C951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F56-CD1E-47D4-A4F0-EEC5ED3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FFA-71C5-47FA-B065-982319E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6F4-260B-4231-91F8-C976E68F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378-E7DC-4947-95C5-3042ED890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1515-8FFB-4A48-AE98-526EC06A2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cc66"/>
                </a:solidFill>
                <a:uFillTx/>
                <a:latin typeface="Times New Roman"/>
              </a:rPr>
              <a:t>Tinnitus:</a:t>
            </a: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de-DE" sz="3600" spc="-1" strike="noStrike">
                <a:solidFill>
                  <a:srgbClr val="ffcc66"/>
                </a:solidFill>
                <a:latin typeface="Times New Roman"/>
              </a:rPr>
              <a:t>eine neue Zivilisationkrankhei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9900"/>
                </a:solidFill>
                <a:uFillTx/>
                <a:latin typeface="Times New Roman"/>
              </a:rPr>
              <a:t>Beschwe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1. Schlafstör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2. Konzentrationsstör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3.Depression (Suizidgefah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4. Zukunftsäng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5. Kommunikationsstör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Times New Roman"/>
              </a:rPr>
              <a:t>6. Gesellschaftliche Is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cp:lastPrinted>2001-05-16T16:05:29Z</cp:lastPrinted>
  <dcterms:modified xsi:type="dcterms:W3CDTF">2001-07-20T09:57:12Z</dcterms:modified>
  <cp:revision>8</cp:revision>
  <dc:subject/>
  <dc:title>Tinnitus:  eine neue Zivilisationkrankheit</dc:title>
</cp:coreProperties>
</file>