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7B8-FE8F-4EA2-B87A-11C37264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B8E-E714-4AFD-8FB3-8E332C4A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6AC-8FE5-420A-A2EA-1304F6F0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DCB-3E05-463C-B13C-A7523B52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87B1-906C-49F0-8842-B8815781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3D00-444E-4CBA-87C1-2D45D290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B5A2-8EF3-495B-A9AA-33964B20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B64A-8094-490E-889E-FF667A34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256D-0A7E-46AB-BA0C-C5CB5C5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90E1-7348-4304-BA14-022A7F27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D03A-A3ED-4ADD-B69E-81832AB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8D6-3F31-41B5-BAC1-3744B9A7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EF61-F010-48A4-96DC-A160E4E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845C-71BE-4BCB-8BCE-FE14BAFE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7857-2D0A-4D85-B0CE-738B4894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BDD6-3828-4CDB-93AB-4FE82E56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CC7E-3C2E-4220-840A-21060954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257-1620-40F6-B585-B012EE9E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248-6BFD-43A3-9D9C-4DDE9385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512-CA31-44BD-846C-42B36539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547-DFCA-4B41-AC5F-F85506B7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0A8-2BC2-4990-88C8-BDA403A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BE2-CFDB-4818-AAB4-54617CF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71E-205C-4604-AFFD-01150CBB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CBD9-42B7-46E6-B30B-0F7839B97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6147-1D0B-444A-85CA-F3DEC5D12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ff9900"/>
                </a:solidFill>
                <a:uFillTx/>
                <a:latin typeface="Times New Roman"/>
              </a:rPr>
              <a:t>Beidohriges Hö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240" y="2133720"/>
            <a:ext cx="8534520" cy="441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</a:rPr>
              <a:t>Erst die gemeinsame Verarbeitung der von beiden Ohren kommenden Schallsignale ermöglic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cc66"/>
                </a:solidFill>
                <a:latin typeface="Arial"/>
              </a:rPr>
              <a:t>Räumliches Hör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cc66"/>
                </a:solidFill>
                <a:latin typeface="Arial"/>
              </a:rPr>
              <a:t>Richtungshör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cc66"/>
                </a:solidFill>
                <a:latin typeface="Arial"/>
              </a:rPr>
              <a:t>Ortung und Trennung mehrer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ffcc66"/>
                </a:solidFill>
                <a:latin typeface="Arial"/>
              </a:rPr>
              <a:t>Signalquell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2:12:52Z</dcterms:created>
  <dc:creator>Neuronet</dc:creator>
  <dc:description/>
  <dc:language>en-US</dc:language>
  <cp:lastModifiedBy>Neuronet</cp:lastModifiedBy>
  <dcterms:modified xsi:type="dcterms:W3CDTF">2001-07-20T09:58:45Z</dcterms:modified>
  <cp:revision>6</cp:revision>
  <dc:subject/>
  <dc:title>Tinnitus:  eine neue Zivilisationkrankheit</dc:title>
</cp:coreProperties>
</file>