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870-06AE-4D0A-82C9-A1184C84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0E9-EEA9-4421-83FF-C2D91812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C30-FE90-4D90-AD86-CD3B3AB4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FB10-6C8A-403A-8D3C-AEF4D0D2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BC2A-A5C3-4818-9590-C8460F0C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4EC5-3518-4A88-A450-518992E7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CD78-DD5C-415E-8AB6-FB86D9B8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CEF6-5AD0-4B73-B94B-8177DEAC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9F85-FE9B-4E85-A12F-C4CAD19A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460B-2066-4F7E-BA4C-94A446FA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CFFC-F398-4C72-9E95-FBC0D5BE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DCA-FF51-44BF-AA97-CE596EC0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8445-174A-4E61-8CCE-5D2FEB5F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7DE5-21CC-4BC3-BBD3-E5637F70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106B-F179-4188-8B19-157D7137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9230-B628-41E6-9E45-BD16C9BA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2960-1087-42BB-ABF7-D869927C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497-335B-423A-ACD5-C34B67EA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F09-F703-4C74-AFD6-D492798F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33C-056D-43F8-8957-02E49242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6F1-B631-45F1-B3E5-F0E2A675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5E6-86C5-4F54-B24D-F1E7C591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3A5-04FF-4673-88A5-D4027D64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C12-5B70-47D1-99BB-8D49E958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B746-31C2-468F-8AB8-90EBEB3AA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A21A-404A-4C98-B475-7BC16001E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ffcc66"/>
                </a:solidFill>
                <a:uFillTx/>
                <a:latin typeface="Times New Roman"/>
              </a:rPr>
              <a:t>Tinnitus:</a:t>
            </a: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i="1" lang="de-DE" sz="3600" spc="-1" strike="noStrike">
                <a:solidFill>
                  <a:srgbClr val="ffcc66"/>
                </a:solidFill>
                <a:latin typeface="Times New Roman"/>
              </a:rPr>
              <a:t>eine neue Zivilisationkrankheit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228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cc66"/>
                </a:solidFill>
                <a:uFillTx/>
                <a:latin typeface="Times New Roman"/>
              </a:rPr>
              <a:t>Häufigke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Times New Roman"/>
              </a:rPr>
              <a:t>3 Millionen Bundesbürger leiden an einem Tinnitus (Dauer: über 10 Jahre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2:12:52Z</dcterms:created>
  <dc:creator>Neuronet</dc:creator>
  <dc:description/>
  <dc:language>en-US</dc:language>
  <cp:lastModifiedBy>Neuronet</cp:lastModifiedBy>
  <dcterms:modified xsi:type="dcterms:W3CDTF">2001-07-20T09:51:02Z</dcterms:modified>
  <cp:revision>2</cp:revision>
  <dc:subject/>
  <dc:title>Tinnitus:  eine neue Zivilisationkrankheit</dc:title>
</cp:coreProperties>
</file>