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E5D-1DB9-41AE-9B8A-56FE06BC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027-29B8-42BD-BBEA-FB6D2882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5C1-B696-4646-88EE-203B336C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373-65D6-414A-BFE0-E83DF951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95D1-0E68-4880-A105-D8B8D3AF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FE61-DC4B-4156-B73C-53093A9C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DD5F-61C9-413C-83E0-22B6EBFD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1E19-F728-4BD0-83F4-9FE3B8CF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4B5B-627A-4883-AA21-AADABAA3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B0C5-A774-45CF-847B-168303D4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4922-3B26-4B62-B48C-D987A9BD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D85-7723-4452-BE85-6D561A0B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2EFA-6F3B-4FBC-A5F5-C78ED0E2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76FC-1E81-4A16-8045-6DF8EA6B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6AE0-D564-41DB-B3F2-1A9303F3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B106-E41C-4A0E-8C95-4DE02313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D2DB-7AD9-409F-AC10-8327CBB3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B9E-E26D-471B-B61F-968451B0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11A-9AC5-4291-A198-AD2FDA33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FF5-7880-4458-BC3B-BFB3984A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223-438B-435B-BCD3-B94A65BD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66B-7F5C-416F-BEEB-C3E71E5F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5DB-E2EE-4FC2-B492-CC9FC883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09A-6F21-40A0-A8D5-090306AE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030E-8F1D-4288-A71E-638661F4C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311B-D168-4B27-94C3-3D289E7FD4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ff9900"/>
                </a:solidFill>
                <a:uFillTx/>
                <a:latin typeface="Times New Roman"/>
              </a:rPr>
              <a:t>Tinnitus - Mode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371600"/>
            <a:ext cx="8458200" cy="37339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220968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Futura Md BT"/>
              </a:rPr>
              <a:t>Wahrnehmung und Bewer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286000" y="2666520"/>
            <a:ext cx="0" cy="685800"/>
          </a:xfrm>
          <a:prstGeom prst="line">
            <a:avLst/>
          </a:prstGeom>
          <a:ln w="49320">
            <a:solidFill>
              <a:srgbClr val="ff0000"/>
            </a:solidFill>
            <a:miter/>
            <a:headEnd len="med" type="triangle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429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9900"/>
                </a:solidFill>
                <a:latin typeface="Futura Md BT"/>
              </a:rPr>
              <a:t>Erkennung, Filte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360" y="54100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9900"/>
                </a:solidFill>
                <a:latin typeface="Futura Md BT"/>
              </a:rPr>
              <a:t>Innenoh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0000" y="6019920"/>
            <a:ext cx="300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ff9900"/>
                </a:solidFill>
                <a:latin typeface="Futura Md BT"/>
              </a:rPr>
              <a:t>Sensor</a:t>
            </a:r>
            <a:r>
              <a:rPr b="0" lang="de-DE" sz="2300" spc="-1" strike="noStrike">
                <a:solidFill>
                  <a:srgbClr val="ff9900"/>
                </a:solidFill>
                <a:latin typeface="Garrison Sans"/>
              </a:rPr>
              <a:t>, </a:t>
            </a:r>
            <a:r>
              <a:rPr b="0" lang="de-DE" sz="2300" spc="-1" strike="noStrike">
                <a:solidFill>
                  <a:srgbClr val="ff9900"/>
                </a:solidFill>
                <a:latin typeface="Futura Md BT"/>
              </a:rPr>
              <a:t>Sinnesorga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5160" y="586728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9900"/>
                </a:solidFill>
                <a:latin typeface="Futura Md BT"/>
              </a:rPr>
              <a:t>Hörnervdurchtrenn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257800" y="2666520"/>
            <a:ext cx="0" cy="685800"/>
          </a:xfrm>
          <a:prstGeom prst="line">
            <a:avLst/>
          </a:prstGeom>
          <a:ln w="49320">
            <a:solidFill>
              <a:srgbClr val="ff0000"/>
            </a:solidFill>
            <a:miter/>
            <a:headEnd len="med" type="triangle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266720" y="4191120"/>
            <a:ext cx="838440" cy="0"/>
          </a:xfrm>
          <a:prstGeom prst="line">
            <a:avLst/>
          </a:prstGeom>
          <a:ln w="49320">
            <a:solidFill>
              <a:srgbClr val="ff0000"/>
            </a:solidFill>
            <a:miter/>
            <a:headEnd len="med" type="triangle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3276720"/>
            <a:ext cx="3810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9900"/>
                </a:solidFill>
                <a:latin typeface="Futura Md BT"/>
              </a:rPr>
              <a:t>Erkennung,  Filte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3352680"/>
            <a:ext cx="2133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3352680"/>
            <a:ext cx="2133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9900"/>
                </a:solidFill>
                <a:latin typeface="Futura Md BT"/>
              </a:rPr>
              <a:t>Emoti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5105520"/>
            <a:ext cx="3733920" cy="1600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04920" y="5181480"/>
            <a:ext cx="320040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52480" y="4038480"/>
            <a:ext cx="144000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bkortikal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486400" y="3962520"/>
            <a:ext cx="240840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mbisches Syste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638680" y="2743200"/>
            <a:ext cx="18288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teuerung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14600" y="2743200"/>
            <a:ext cx="1981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teuerung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3720" y="1752480"/>
            <a:ext cx="457200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imäres Hörzentru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2:12:52Z</dcterms:created>
  <dc:creator>Neuronet</dc:creator>
  <dc:description/>
  <dc:language>en-US</dc:language>
  <cp:lastModifiedBy>Neuronet</cp:lastModifiedBy>
  <cp:lastPrinted>2001-05-17T06:35:37Z</cp:lastPrinted>
  <dcterms:modified xsi:type="dcterms:W3CDTF">2001-07-20T10:02:05Z</dcterms:modified>
  <cp:revision>12</cp:revision>
  <dc:subject/>
  <dc:title>Tinnitus:  eine neue Zivilisationkrankheit</dc:title>
</cp:coreProperties>
</file>