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6A0-720D-4E74-A4B3-40FB3DF4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CFC-B2B4-441D-AB2D-ED588D56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272-1C83-4755-8C74-DD72A341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204-90CC-4B02-AD1D-D45EF705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C05C-7196-422B-802B-89C70AA0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330C-595E-4146-B43C-34A431A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7DCA-F7E9-4C7F-A4EF-AB4F6B01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224F-2128-4EB5-B1A2-F712783A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C03F-4947-4935-901B-1E683B5C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3AFE-9560-4E35-B3B6-3A50E45A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04A5-EE91-435E-B5D1-AE2D576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CD9-C618-4E5D-8EE9-87D54C87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CB9E-566C-43AF-AA3C-7028C69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BE31-BA48-4F4D-B4AE-23EF349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3DA3-197D-4D19-8A8D-5C94A886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B8C4-E032-4DED-8B71-4E20EF15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0534-A906-4810-8AC0-A5B66702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06B-882E-464B-A001-FDFB367F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8A3-CD0B-4527-9D5C-33904C98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9D2-C83B-4D09-951B-3C13C601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8FC-0486-48F3-9214-AA9F18C8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A27-55E4-4E8D-BC88-619218CA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B37-558C-48B5-B91E-CB39235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1EC-764F-48D1-B885-D8488DEF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A6B9-8FBF-4356-ADF3-CF985BE0F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6BF-D0DC-4C5B-AA01-D84F675F2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cc66"/>
                </a:solidFill>
                <a:uFillTx/>
                <a:latin typeface="Times New Roman"/>
              </a:rPr>
              <a:t>Tinnitus:</a:t>
            </a: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i="1" lang="de-DE" sz="3600" spc="-1" strike="noStrike">
                <a:solidFill>
                  <a:srgbClr val="ffcc66"/>
                </a:solidFill>
                <a:latin typeface="Times New Roman"/>
              </a:rPr>
              <a:t>eine neue Zivilisationskrankhei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1337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9900"/>
                </a:solidFill>
                <a:uFillTx/>
                <a:latin typeface="Times New Roman"/>
              </a:rPr>
              <a:t>Ursac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1. Schädigung des Oh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2. Hörsturz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3. 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4. Lärm (Disco, Knalltrauma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5. Bakterien/Vi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dcterms:modified xsi:type="dcterms:W3CDTF">2001-07-20T09:52:24Z</dcterms:modified>
  <cp:revision>6</cp:revision>
  <dc:subject/>
  <dc:title>Tinnitus:  eine neue Zivilisationkrankheit</dc:title>
</cp:coreProperties>
</file>