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380-23A9-4566-83B9-672E91CC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E41-FC41-4E6E-BEDB-58B788D8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BD1-6E24-47B0-A776-893C4566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534-0E57-45B4-8335-5EA566F1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050C-16A5-4D76-9DB4-168BD1C1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2BDB-EC39-470B-9D6D-A69D4FD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0BC5-9BA0-48A4-A67F-5C95205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C910-CC0A-4847-B16C-9B6DB7AF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DCAC-7147-4EF5-A417-FCFF1243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E52C-B1DE-474B-9780-74BD06AD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BFA5-D81B-4BE0-9885-DA670B62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F43-5801-471F-8ED7-E30228E9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C6B7-52A2-41BF-8238-9D544F1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C747-F274-4C79-B3C4-0258FE30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0653-1131-4CF3-85FD-67476E12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64EF-4123-47CF-9232-9B8DF380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3E34-5E58-43F4-8344-C999D642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8ED-B819-4AA0-AF59-58317C86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19B-CA35-425E-8BCD-88F0510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077-5CF4-4996-BAB2-D49D15BA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465-CC72-4F8E-BB8D-A0528319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FF5-ADAD-4CC2-B7C9-BAB998F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CDE-9555-4503-BDD7-8808D13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CFA-D2E7-4A8F-9B1E-D3EE569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7691-7C87-4B9F-9F24-8775AAFD2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96A-233A-40D2-98C9-6C117C120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9900"/>
                </a:solidFill>
                <a:uFillTx/>
                <a:latin typeface="Times New Roman"/>
              </a:rPr>
              <a:t>Hören und Wahrneh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Musik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360" y="1905120"/>
            <a:ext cx="24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Was Sie sehen</a:t>
            </a:r>
            <a:r>
              <a:rPr b="1" lang="de-DE" sz="2400" spc="-1" strike="noStrike">
                <a:solidFill>
                  <a:srgbClr val="000066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00" y="3048120"/>
            <a:ext cx="344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Was die Instru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produzieren</a:t>
            </a:r>
            <a:r>
              <a:rPr b="1" lang="de-DE" sz="2400" spc="-1" strike="noStrike">
                <a:solidFill>
                  <a:srgbClr val="000066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0" y="472428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Was Ihr Ohr aufnimm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20" y="609588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 </a:t>
            </a:r>
            <a:r>
              <a:rPr b="1" lang="de-DE" sz="2400" spc="-1" strike="noStrike">
                <a:solidFill>
                  <a:srgbClr val="ffcc66"/>
                </a:solidFill>
                <a:latin typeface="Futura Md BT"/>
              </a:rPr>
              <a:t>Was Sie wahrnehmen</a:t>
            </a:r>
            <a:r>
              <a:rPr b="1" lang="de-DE" sz="2400" spc="-1" strike="noStrike">
                <a:solidFill>
                  <a:srgbClr val="000066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cp:lastPrinted>2001-05-17T05:28:07Z</cp:lastPrinted>
  <dcterms:modified xsi:type="dcterms:W3CDTF">2001-07-20T10:00:10Z</dcterms:modified>
  <cp:revision>8</cp:revision>
  <dc:subject/>
  <dc:title>Tinnitus:  eine neue Zivilisationkrankheit</dc:title>
</cp:coreProperties>
</file>