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936-230B-4BE1-97B3-1AE40DC1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704-2B67-4DA5-93DE-49D3D058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1E5-6697-4899-BD43-3F0168AF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286-943A-44ED-9AFF-0A946618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B92A-AE39-41B3-A1BC-44800FF0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26B8-0D9E-43D0-BA60-EC3A7896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6151-13DD-4DC4-9113-68E6ABA2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115B-B00A-4EA5-ADBF-8BB4C073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41EF-C382-454A-9168-5971CC4F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9578-5718-4551-98FA-2FB00A18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57E6-E2FF-47E8-9DA9-2E5D4A9C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F4E-EBD8-4A68-A592-2086200E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1A10-CB24-4F7B-8F27-BA45420C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1D09-2590-435A-B196-F8EA8DD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69FD-D29A-4457-B4EB-5DD14933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2169-EB2E-434B-800D-2C2FC8BB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A574-AD0E-4CAB-AF8D-879C2702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A51-20AC-476B-87B6-2E3FFA3A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0FC-251A-4318-A234-9A9689E7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26F-F22B-4D1A-AFE7-CCE06C06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010-5EAF-43DD-B85D-BEE4A264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8E4-8503-43F0-8FCC-3914ECAE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E1B-E633-4DAA-B68F-CC188FD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DC8-723D-4BF8-9594-5140642E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3F8D-329B-4AC5-8C09-715DFCACD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7D41-794E-4A19-BD8F-9F47D825E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9900"/>
                </a:solidFill>
                <a:uFillTx/>
                <a:latin typeface="Times New Roman"/>
              </a:rPr>
              <a:t>Datenverarbeit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Futura Md BT"/>
              </a:rPr>
              <a:t>             </a:t>
            </a:r>
            <a:r>
              <a:rPr b="1" lang="de-DE" sz="2800" spc="-1" strike="noStrike">
                <a:solidFill>
                  <a:srgbClr val="ffcc66"/>
                </a:solidFill>
                <a:latin typeface="Futura Md BT"/>
              </a:rPr>
              <a:t>Bewusste Wahrnehm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57400"/>
            <a:ext cx="236232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 Narrow"/>
              </a:rPr>
              <a:t>Gedächtn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2057400"/>
            <a:ext cx="2362320" cy="1600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Futura Md BT"/>
              </a:rPr>
              <a:t>Kurzzeit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Futura Md BT"/>
              </a:rPr>
              <a:t>gedächtn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38480"/>
            <a:ext cx="2819520" cy="1981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Futura Md BT"/>
              </a:rPr>
              <a:t>Emotion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Futura Md BT"/>
              </a:rPr>
              <a:t>Limbisches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819520"/>
            <a:ext cx="3276360" cy="2514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Futura Md BT"/>
              </a:rPr>
              <a:t>Erkennung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Futura Md BT"/>
              </a:rPr>
              <a:t>Filter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cc"/>
                </a:solidFill>
                <a:latin typeface="Futura Md BT"/>
              </a:rPr>
              <a:t>Subkortik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6281640"/>
            <a:ext cx="8381880" cy="52056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Futura Md BT"/>
              </a:rPr>
              <a:t>Das Ohr und die anderen Sinnesorg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952880" y="5333760"/>
            <a:ext cx="0" cy="990360"/>
          </a:xfrm>
          <a:prstGeom prst="line">
            <a:avLst/>
          </a:prstGeom>
          <a:ln w="127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171840" y="2895480"/>
            <a:ext cx="609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8954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4495680"/>
            <a:ext cx="68580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2209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Futura Md BT"/>
              </a:rPr>
              <a:t>3 B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362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Futura Md BT"/>
              </a:rPr>
              <a:t>pro Seku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209680"/>
            <a:ext cx="0" cy="609840"/>
          </a:xfrm>
          <a:prstGeom prst="line">
            <a:avLst/>
          </a:prstGeom>
          <a:ln w="5724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Futura Md BT"/>
              </a:rPr>
              <a:t>pro Seku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5638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Futura Md BT"/>
              </a:rPr>
              <a:t>1 Million </a:t>
            </a:r>
            <a:r>
              <a:rPr b="1" lang="de-DE" sz="2000" spc="-1" strike="noStrike">
                <a:solidFill>
                  <a:srgbClr val="ffffff"/>
                </a:solidFill>
                <a:latin typeface="Futura Md BT"/>
              </a:rPr>
              <a:t>By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cp:lastPrinted>2001-05-17T06:26:41Z</cp:lastPrinted>
  <dcterms:modified xsi:type="dcterms:W3CDTF">2001-07-20T10:00:49Z</dcterms:modified>
  <cp:revision>12</cp:revision>
  <dc:subject/>
  <dc:title>Tinnitus:  eine neue Zivilisationkrankheit</dc:title>
</cp:coreProperties>
</file>