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4446-48AA-4543-8A8E-800F1E2B0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A391-8B7B-4D6A-86D6-B8F1EBE22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4AB2-FE90-4070-B5B6-027A6DD22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02AC-F1FB-469C-A7B5-FFEF9B3E7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C6BEB-FDCA-435B-A3C0-AB085269B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7F08C-2306-497E-A090-91B343B17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242BF-4F70-482A-8FFF-BA3BD0F2F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6448C-410A-4C7E-9EFC-B35231FDA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7AEA5-73C8-4F5D-8446-0080A89D2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3559A-A91C-4BEF-A488-534C45F9E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3F74B-3B1D-4595-92A3-CE620B77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0378-86A6-4A37-9D0A-FB0873A96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06559-A978-4E87-B85D-0D4CCF8B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E8F16-BC9F-489B-B575-221A8433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49768-A1E3-4572-B4CF-336681B90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F96FD-F8C5-4AB9-BF37-72D7DDA70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B1E0B-DE19-4078-A284-7132B9704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EFB5-9C6F-44D6-B63C-4F0A5E3BE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1057-66C4-4CA7-B1EB-90A401ECA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BC78-6734-48CB-8EB5-429437C8E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F9C7-A511-4BD0-A8D9-515F2CA06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E639-2E59-4BF8-B265-6B84188C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6A43-D747-411D-B329-5210B700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05D4-3B52-4128-85D2-36CD587A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D4D5C-1494-4CBB-B133-FE5C829272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B7F45-4512-4E3C-85E6-7EA961B207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 u="sng">
                <a:solidFill>
                  <a:srgbClr val="ff9900"/>
                </a:solidFill>
                <a:uFillTx/>
                <a:latin typeface="Times New Roman"/>
              </a:rPr>
              <a:t>Beidohriges Höre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800" spc="-1" strike="noStrike">
                <a:solidFill>
                  <a:srgbClr val="ffcc66"/>
                </a:solidFill>
                <a:latin typeface="Arial Narrow"/>
              </a:rPr>
              <a:t>Verbesserung des Sprachverstehens in geräuschvollen Umgebungen: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arty%20Effekt" descr=""/>
          <p:cNvPicPr/>
          <p:nvPr/>
        </p:nvPicPr>
        <p:blipFill>
          <a:blip r:embed="rId1"/>
          <a:stretch/>
        </p:blipFill>
        <p:spPr>
          <a:xfrm>
            <a:off x="990720" y="3048120"/>
            <a:ext cx="739116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6T12:12:52Z</dcterms:created>
  <dc:creator>Neuronet</dc:creator>
  <dc:description/>
  <dc:language>en-US</dc:language>
  <cp:lastModifiedBy>Neuronet</cp:lastModifiedBy>
  <cp:lastPrinted>2001-05-17T05:23:34Z</cp:lastPrinted>
  <dcterms:modified xsi:type="dcterms:W3CDTF">2001-07-20T09:59:24Z</dcterms:modified>
  <cp:revision>7</cp:revision>
  <dc:subject/>
  <dc:title>Tinnitus:  eine neue Zivilisationkrankheit</dc:title>
</cp:coreProperties>
</file>